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C18-5C8C-4C8A-BADA-ADEE91D5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F52-D413-48EB-9B8B-9386A96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24D-3E1D-4185-BAFA-C1A28A8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A48-1324-4190-877D-7AF6929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E2D-2254-495B-A7F2-FE84369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07F-110F-4910-9547-B5666FB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96D-3BDB-4666-8845-9C1EEC1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C31-1F6F-4114-BA94-53B8A28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E91-2C8A-4FEA-BD42-A4C4721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71C-DB78-4DCC-8BD6-F4DF346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2B2-DABF-4A8C-BC2F-4A31C09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4D3-81F1-4D71-9DF1-8989868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8146-385E-4A41-94EB-8B48637CE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swer Keys, Checklists, Rating Scales &amp; Rubr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AutoShape 7"/>
          <p:cNvCxnSpPr/>
          <p:nvPr/>
        </p:nvCxnSpPr>
        <p:spPr>
          <a:xfrm>
            <a:off x="1676520" y="521928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" name="Line 10"/>
          <p:cNvSpPr/>
          <p:nvPr/>
        </p:nvSpPr>
        <p:spPr>
          <a:xfrm>
            <a:off x="16765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30481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447920" cy="143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"/>
          <p:cNvPicPr/>
          <p:nvPr/>
        </p:nvPicPr>
        <p:blipFill>
          <a:blip r:embed="rId2"/>
          <a:stretch/>
        </p:blipFill>
        <p:spPr>
          <a:xfrm>
            <a:off x="1066680" y="4457880"/>
            <a:ext cx="2133720" cy="1877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4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Ready for my big close-up: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Yes____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No____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(check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Picture 1.png"/>
          <p:cNvPicPr/>
          <p:nvPr/>
        </p:nvPicPr>
        <p:blipFill>
          <a:blip r:embed="rId2"/>
          <a:stretch/>
        </p:blipFill>
        <p:spPr>
          <a:xfrm>
            <a:off x="866880" y="1832040"/>
            <a:ext cx="7286400" cy="502596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6" descr=""/>
          <p:cNvPicPr/>
          <p:nvPr/>
        </p:nvPicPr>
        <p:blipFill>
          <a:blip r:embed="rId3"/>
          <a:stretch/>
        </p:blipFill>
        <p:spPr>
          <a:xfrm>
            <a:off x="96840" y="-19080"/>
            <a:ext cx="32432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6" descr=""/>
          <p:cNvPicPr/>
          <p:nvPr/>
        </p:nvPicPr>
        <p:blipFill>
          <a:blip r:embed="rId2"/>
          <a:stretch/>
        </p:blipFill>
        <p:spPr>
          <a:xfrm>
            <a:off x="-55440" y="-30240"/>
            <a:ext cx="2877840" cy="88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creen Shot 2015-10-07 at 5.18.14 PM.png"/>
          <p:cNvPicPr/>
          <p:nvPr/>
        </p:nvPicPr>
        <p:blipFill>
          <a:blip r:embed="rId3"/>
          <a:stretch/>
        </p:blipFill>
        <p:spPr>
          <a:xfrm>
            <a:off x="533520" y="2057400"/>
            <a:ext cx="7950240" cy="416556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it come to th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723960" y="2743200"/>
            <a:ext cx="7695720" cy="685440"/>
            <a:chOff x="723960" y="2743200"/>
            <a:chExt cx="7695720" cy="685440"/>
          </a:xfrm>
        </p:grpSpPr>
        <p:sp>
          <p:nvSpPr>
            <p:cNvPr id="50" name="WordArt 5"/>
            <p:cNvSpPr txBox="1"/>
            <p:nvPr/>
          </p:nvSpPr>
          <p:spPr>
            <a:xfrm>
              <a:off x="723960" y="2743200"/>
              <a:ext cx="3735000" cy="62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Arial"/>
                </a:rPr>
                <a:t>Cognitive Processes  =&gt;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" name="WordArt 6"/>
            <p:cNvSpPr txBox="1"/>
            <p:nvPr/>
          </p:nvSpPr>
          <p:spPr>
            <a:xfrm>
              <a:off x="4798080" y="2743200"/>
              <a:ext cx="362160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Self Monitoring Learners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" name="WordArt 7"/>
          <p:cNvSpPr txBox="1"/>
          <p:nvPr/>
        </p:nvSpPr>
        <p:spPr>
          <a:xfrm>
            <a:off x="1473120" y="1981080"/>
            <a:ext cx="6197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Active Construction of Understand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sp>
          <p:nvSpPr>
            <p:cNvPr id="54" name="WordArt 8"/>
            <p:cNvSpPr txBox="1"/>
            <p:nvPr/>
          </p:nvSpPr>
          <p:spPr>
            <a:xfrm>
              <a:off x="2857680" y="3657600"/>
              <a:ext cx="342900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Feedback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4681440"/>
              <a:ext cx="23623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"/>
            <p:cNvPicPr/>
            <p:nvPr/>
          </p:nvPicPr>
          <p:blipFill>
            <a:blip r:embed="rId2"/>
            <a:stretch/>
          </p:blipFill>
          <p:spPr>
            <a:xfrm>
              <a:off x="2286000" y="4692600"/>
              <a:ext cx="304812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"/>
            <p:cNvPicPr/>
            <p:nvPr/>
          </p:nvPicPr>
          <p:blipFill>
            <a:blip r:embed="rId3"/>
            <a:stretch/>
          </p:blipFill>
          <p:spPr>
            <a:xfrm>
              <a:off x="5334120" y="4678200"/>
              <a:ext cx="3809880" cy="21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ing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Key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s </a:t>
            </a:r>
            <a:r>
              <a:rPr b="0" lang="en-US" sz="4800" spc="-1" strike="noStrike">
                <a:solidFill>
                  <a:srgbClr val="000000"/>
                </a:solidFill>
                <a:latin typeface="Charco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ng Scales    ____|____|____|____|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381200" y="380988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 rot="20064000">
            <a:off x="3541320" y="23623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1714320" cy="14158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7f7f7f">
                <a:alpha val="43000"/>
              </a:srgbClr>
            </a:outerShdw>
          </a:effectLst>
        </p:spPr>
      </p:pic>
      <p:sp>
        <p:nvSpPr>
          <p:cNvPr id="63" name="TextBox 2"/>
          <p:cNvSpPr/>
          <p:nvPr/>
        </p:nvSpPr>
        <p:spPr>
          <a:xfrm>
            <a:off x="4267080" y="4648320"/>
            <a:ext cx="36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duster"/>
              </a:rPr>
              <a:t>Fail              meh           Awesome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cklist is a simple listing of criteria or dimensions, … simply check whether or not each criterion was met or each dimension demonstrated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should be concrete and observ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are either present or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 may be scored (yes / no,   +1 / -1,  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7924680" y="5181480"/>
            <a:ext cx="85752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07800" y="6027840"/>
            <a:ext cx="73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Millan, J. (2014)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room assessment: Principles and practice for effective standards-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(6th ed.). Boston: Pears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dler, M. (1999)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room Assessment and Learn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New York: Longma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 checkli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52480" y="4343400"/>
            <a:ext cx="5639040" cy="22892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of para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single 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in logical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 suppo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your targ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effective paragraph constru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list of observable component behavio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 the components in a logical ord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se a si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present / abs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rk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 are used when characteristics or dimensions of performance or product can be identified and exist to a greater or lesser degree.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those behaviors that you will t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each item to a single dimension of the performance or produ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pivotal elem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judgmental term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4136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54200" y="617076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68240" y="64008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se, C. (1999).  Contemporary Assessment for Educat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8035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s of literary critic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3716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97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4038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029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172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1066680" y="3581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      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1523880" y="5410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1905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5181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6324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3915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219320" y="594360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      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885240" y="219384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reasons and specific evidence to support 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974880" y="46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6"/>
          <p:cNvSpPr/>
          <p:nvPr/>
        </p:nvSpPr>
        <p:spPr>
          <a:xfrm>
            <a:off x="1510200" y="4724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nd discusses alternatives points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ubric is simpl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erarchy of standards used to score student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.*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 generally have 3 - 6 levels of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 can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aly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ner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istic: describes the qualities of the performance as a whole.  One score stands for a constellation of descrip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tic: assigns separate scores to the tas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essential tra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: one rubric applies to various instances of the phenomen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: the rubric applies to one specific task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6080" y="6170760"/>
            <a:ext cx="68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Bush &amp; Leinwand. (2000).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hematics Assessment: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ston, VA.  NCT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75120" y="6519960"/>
            <a:ext cx="84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Gatha &amp; Darcy. (2010).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brics at Play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aching Mathematics in the Middle School. v. 15 n.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icture 1.png"/>
          <p:cNvPicPr/>
          <p:nvPr/>
        </p:nvPicPr>
        <p:blipFill>
          <a:blip r:embed="rId2"/>
          <a:srcRect l="0" t="6151" r="0" b="0"/>
          <a:stretch/>
        </p:blipFill>
        <p:spPr>
          <a:xfrm>
            <a:off x="839880" y="1905120"/>
            <a:ext cx="7237440" cy="48704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7" descr=""/>
          <p:cNvPicPr/>
          <p:nvPr/>
        </p:nvPicPr>
        <p:blipFill>
          <a:blip r:embed="rId3"/>
          <a:stretch/>
        </p:blipFill>
        <p:spPr>
          <a:xfrm>
            <a:off x="96840" y="-30240"/>
            <a:ext cx="3122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03:06Z</dcterms:created>
  <dc:creator>Mark Roddy</dc:creator>
  <dc:description/>
  <dc:language>en-US</dc:language>
  <cp:lastModifiedBy>Mark Roddy</cp:lastModifiedBy>
  <cp:lastPrinted>2004-10-11T18:35:01Z</cp:lastPrinted>
  <dcterms:modified xsi:type="dcterms:W3CDTF">2015-10-08T00:20:48Z</dcterms:modified>
  <cp:revision>47</cp:revision>
  <dc:subject/>
  <dc:title>Checklists and Rating Scales</dc:title>
</cp:coreProperties>
</file>